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71800" cy="424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5840" y="9360"/>
            <a:ext cx="2971800" cy="424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-360" y="8608680"/>
            <a:ext cx="2971800" cy="423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3885840" y="8608680"/>
            <a:ext cx="2971800" cy="423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353E60-C96C-4336-9349-422AF72DE020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Img"/>
          </p:nvPr>
        </p:nvSpPr>
        <p:spPr>
          <a:xfrm>
            <a:off x="1320840" y="793440"/>
            <a:ext cx="4216320" cy="31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84760" y="0"/>
            <a:ext cx="2973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4760" y="858672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586720"/>
            <a:ext cx="296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29685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08520" y="0"/>
            <a:ext cx="2949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08520" y="8537400"/>
            <a:ext cx="2949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537400"/>
            <a:ext cx="294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4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1160" y="4311360"/>
            <a:ext cx="5029200" cy="376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tawarehouse- banco de dados extraido d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mbiente de produção e externo, que fo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lecionados, depurados,transformados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sumidos e segmentados por ass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.: Dimensão-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isão        - segmento x estrutura x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dida     -  terminais em servi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4760" y="0"/>
            <a:ext cx="2973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58672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586720"/>
            <a:ext cx="296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685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08520" y="0"/>
            <a:ext cx="2949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08520" y="8537400"/>
            <a:ext cx="2949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537400"/>
            <a:ext cx="294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94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1160" y="4311360"/>
            <a:ext cx="5029200" cy="376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tawarehouse- banco de dados extraido d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mbiente de produção e externo, que fo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lecionados, depurados,transformados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sumidos e segmentados por ass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.: Dimensão-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isão        - segmento x estrutura x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dida     -  terminais em servi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4760" y="0"/>
            <a:ext cx="2973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4760" y="858672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586720"/>
            <a:ext cx="296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29685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08520" y="0"/>
            <a:ext cx="2949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8520" y="8537400"/>
            <a:ext cx="2949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537400"/>
            <a:ext cx="294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1160" y="4311360"/>
            <a:ext cx="5029200" cy="376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tawarehouse- banco de dados extraido d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mbiente de produção e externo, que fo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lecionados, depurados,transformados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sumidos e segmentados por ass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.: Dimensão-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isão        - segmento x estrutura x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dida     -  terminais em servi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4760" y="0"/>
            <a:ext cx="2973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4760" y="858852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1440" y="85885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144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22280" y="793800"/>
            <a:ext cx="4213440" cy="315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0800" y="4311360"/>
            <a:ext cx="50310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6324480"/>
            <a:ext cx="1292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000080"/>
                </a:solidFill>
                <a:latin typeface="Arial"/>
              </a:rPr>
              <a:t>Jun/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mpresa.htm" TargetMode="External"/><Relationship Id="rId2" Type="http://schemas.openxmlformats.org/officeDocument/2006/relationships/hyperlink" Target="file:///modeloatual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otivacao.htm" TargetMode="External"/><Relationship Id="rId2" Type="http://schemas.openxmlformats.org/officeDocument/2006/relationships/hyperlink" Target="file:///motivacao.htm" TargetMode="External"/><Relationship Id="rId3" Type="http://schemas.openxmlformats.org/officeDocument/2006/relationships/hyperlink" Target="file:///motivacao.htm" TargetMode="External"/><Relationship Id="rId4" Type="http://schemas.openxmlformats.org/officeDocument/2006/relationships/slide" Target="slide6.xml"/><Relationship Id="rId5" Type="http://schemas.openxmlformats.org/officeDocument/2006/relationships/hyperlink" Target="file:///empresa.htm" TargetMode="External"/><Relationship Id="rId6" Type="http://schemas.openxmlformats.org/officeDocument/2006/relationships/hyperlink" Target="file:///empresa.htm" TargetMode="External"/><Relationship Id="rId7" Type="http://schemas.openxmlformats.org/officeDocument/2006/relationships/hyperlink" Target="file:///modeloatual.htm" TargetMode="External"/><Relationship Id="rId8" Type="http://schemas.openxmlformats.org/officeDocument/2006/relationships/hyperlink" Target="file:///modeloatual.htm" TargetMode="External"/><Relationship Id="rId9" Type="http://schemas.openxmlformats.org/officeDocument/2006/relationships/hyperlink" Target="file:///modelomultidimensional.htm" TargetMode="Externa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tivaca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onceito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iposrelacion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3429000"/>
          <a:ext cx="24606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29000"/>
                    <a:ext cx="246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33520"/>
            <a:ext cx="8153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c0128"/>
                </a:solidFill>
                <a:uFillTx/>
                <a:latin typeface="Comic Sans MS"/>
              </a:rPr>
              <a:t>DATA WEBHOUSE NO</a:t>
            </a:r>
            <a:br>
              <a:rPr sz="4000"/>
            </a:br>
            <a:r>
              <a:rPr b="1" lang="en-US" sz="4000" spc="-1" strike="noStrike" u="sng">
                <a:solidFill>
                  <a:srgbClr val="fc0128"/>
                </a:solidFill>
                <a:uFillTx/>
                <a:latin typeface="Comic Sans MS"/>
              </a:rPr>
              <a:t> 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20880" y="844560"/>
            <a:ext cx="7302240" cy="51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219320"/>
            <a:ext cx="685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Comic Sans MS"/>
              </a:rPr>
              <a:t>QUAL É O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133720"/>
            <a:ext cx="71265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DESENHAR O MODELO MULTIDIMENSIONAL  PARA ATENDER AS SEGUINTE NECESSIDADES DE INFORMAÇÃO</a:t>
            </a: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1.QUAIS OS TIPOS DE CLIENTES (P/ SEXO, FAIXA ETÁRIA,DESEJOS,.) QUE COMPRARAM UM PRODUTO X E PARA QUE TIPO DE USO?</a:t>
            </a: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2.QUAL A PREFERNECIA (TIPO DE PRODUTO) OBSERVADA POR AREA GEOGRAFICA E QUAL TIPO DE EVENTO UTILIZADO PARA A CONCRETIZAÇÃO DA VENDA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empre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Comic Sans MS"/>
                <a:hlinkClick r:id="rId2"/>
              </a:rPr>
              <a:t>modelo a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20880" y="844560"/>
            <a:ext cx="7302240" cy="51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219320"/>
            <a:ext cx="685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Comic Sans MS"/>
              </a:rPr>
              <a:t>QUAL É A SOL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209680"/>
            <a:ext cx="7126560" cy="38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000" spc="-1" strike="noStrike">
                <a:solidFill>
                  <a:srgbClr val="00ae00"/>
                </a:solidFill>
                <a:latin typeface="Comic Sans MS"/>
              </a:rPr>
              <a:t>O MODELO É DO TIPO SNOWFLAKE ATRIBUTO (TABELA DE FATO SEM FATO)</a:t>
            </a:r>
            <a:br>
              <a:rPr sz="2000"/>
            </a:br>
            <a:r>
              <a:rPr b="1" lang="pt-BR" sz="2000" spc="-1" strike="noStrike">
                <a:solidFill>
                  <a:srgbClr val="00ae00"/>
                </a:solidFill>
                <a:latin typeface="Comic Sans MS"/>
              </a:rPr>
              <a:t>REDUZ NUM. DE DIMENSÕES FACILITANDO USO DE APLICATIVO DE RELATÓRIO E REDUZ O TAMANHO GERAL DE INDICE, ASSIM COMO A COMPLEXIDADE DE SQL GERADO.</a:t>
            </a:r>
            <a:br>
              <a:rPr sz="2000"/>
            </a:br>
            <a:r>
              <a:rPr b="1" lang="pt-BR" sz="2000" spc="-1" strike="noStrike">
                <a:solidFill>
                  <a:srgbClr val="00ae00"/>
                </a:solidFill>
                <a:latin typeface="Comic Sans MS"/>
              </a:rPr>
              <a:t>AUMENTO DE DESMPENHO</a:t>
            </a:r>
            <a:br>
              <a:rPr sz="2000"/>
            </a:br>
            <a:r>
              <a:rPr b="1" lang="pt-BR" sz="2000" spc="-1" strike="noStrike">
                <a:solidFill>
                  <a:srgbClr val="00ae00"/>
                </a:solidFill>
                <a:latin typeface="Comic Sans MS"/>
              </a:rPr>
              <a:t>ELIMINAÇÃO DE PONTOS DE ENTRADA DE CHAVES NÃO PRIMARIA</a:t>
            </a:r>
            <a:br>
              <a:rPr sz="2000"/>
            </a:br>
            <a:br>
              <a:rPr sz="18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dataweb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20880" y="844560"/>
            <a:ext cx="7302240" cy="51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219320"/>
            <a:ext cx="685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Comic Sans MS"/>
              </a:rPr>
              <a:t>CONCLUSÕES E COMENT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057400"/>
            <a:ext cx="712656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lvl="1" marL="479520" algn="ctr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Estratégia de implementa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Dividir em 3 grupos de trabalh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algn="ctr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- Interface e coleta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- Desenvolvimento a partir dos dados já coletados ate a carga no 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- Desenvolvimento das consultas e disponibilização das informações para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20880" y="844560"/>
            <a:ext cx="7302240" cy="51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219320"/>
            <a:ext cx="685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Comic Sans MS"/>
              </a:rPr>
              <a:t>CONCLUSÕES E COMENT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133720"/>
            <a:ext cx="636444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lvl="1" marL="479520" algn="ctr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stratégia de Implantaçã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ir em 4 grupos de trabal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-  Treinamento do usuári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 Produção da interface e da carga do D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- Analise de pendência e liberação de informaçõ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 Infra-estrutura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38280" y="2438280"/>
          <a:ext cx="5486400" cy="4114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382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0" y="3429000"/>
          <a:ext cx="24606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429000"/>
                    <a:ext cx="246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905120" y="4572000"/>
            <a:ext cx="1904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33520"/>
            <a:ext cx="8153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c0128"/>
                </a:solidFill>
                <a:uFillTx/>
                <a:latin typeface="Comic Sans MS"/>
              </a:rPr>
              <a:t>DATA WEBHOUSE NO</a:t>
            </a:r>
            <a:br>
              <a:rPr sz="4000"/>
            </a:br>
            <a:r>
              <a:rPr b="1" lang="en-US" sz="4000" spc="-1" strike="noStrike" u="sng">
                <a:solidFill>
                  <a:srgbClr val="fc0128"/>
                </a:solidFill>
                <a:uFillTx/>
                <a:latin typeface="Comic Sans MS"/>
              </a:rPr>
              <a:t> 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438280" y="2438280"/>
          <a:ext cx="5486400" cy="4114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382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0" y="3429000"/>
          <a:ext cx="24606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429000"/>
                    <a:ext cx="246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905120" y="4572000"/>
            <a:ext cx="1904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33520"/>
            <a:ext cx="8153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c0128"/>
                </a:solidFill>
                <a:uFillTx/>
                <a:latin typeface="Comic Sans MS"/>
              </a:rPr>
              <a:t>DATA WEBHOUSE NO</a:t>
            </a:r>
            <a:br>
              <a:rPr sz="4000"/>
            </a:br>
            <a:r>
              <a:rPr b="1" lang="en-US" sz="4000" spc="-1" strike="noStrike" u="sng">
                <a:solidFill>
                  <a:srgbClr val="fc0128"/>
                </a:solidFill>
                <a:uFillTx/>
                <a:latin typeface="Comic Sans MS"/>
              </a:rPr>
              <a:t> E-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77000" y="44956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15080" y="2666880"/>
          <a:ext cx="152424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15080" y="2666880"/>
                    <a:ext cx="15242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624720" y="4114800"/>
            <a:ext cx="685800" cy="762120"/>
          </a:xfrm>
          <a:prstGeom prst="flowChartDecision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7800"/>
            <a:ext cx="9144000" cy="58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1"/>
              </a:rPr>
              <a:t>                         _x000b__x000b_De que forma a Internet vem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2"/>
              </a:rPr>
              <a:t> influênciar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3"/>
              </a:rPr>
              <a:t> o surgimento de um novo conceito de armazém de dad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? 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4" action="ppaction://hlinksldjump"/>
              </a:rPr>
              <a:t>_x000b_</a:t>
            </a:r>
            <a:br>
              <a:rPr sz="2000"/>
            </a:b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r>
              <a:rPr b="1" lang="pt-BR" sz="2000" spc="-1" strike="noStrike" u="sng">
                <a:solidFill>
                  <a:srgbClr val="fc0128"/>
                </a:solidFill>
                <a:uFillTx/>
                <a:latin typeface="Tahoma"/>
                <a:hlinkClick r:id="rId5"/>
              </a:rPr>
              <a:t>De que forma se dá o gerenciamento do relacionamento do cliente X empresa em um Site Web voltado para Armazém de Dados ? 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6"/>
              </a:rPr>
              <a:t>_x000b_</a:t>
            </a:r>
            <a:br>
              <a:rPr sz="2000"/>
            </a:b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pondo a necessidade de informações para tomada de decisões para uma campanha publicitária utilizando o fluxo de cliques realizado por cada cliente, como poderia ser o 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7"/>
              </a:rPr>
              <a:t>modelo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8"/>
              </a:rPr>
              <a:t> conceitual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e dados e 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9"/>
              </a:rPr>
              <a:t>multidimensional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para atender a estas necessidades ?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10" action="ppaction://hlinksldjump"/>
              </a:rPr>
              <a:t>De que forma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11" action="ppaction://hlinksldjump"/>
              </a:rPr>
              <a:t> poderiamos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12" action="ppaction://hlinksldjump"/>
              </a:rPr>
              <a:t> obter um aumento de desempenho no modelo</a:t>
            </a:r>
            <a:r>
              <a:rPr b="0" lang="pt-BR" sz="2000" spc="-1" strike="noStrike" u="sng">
                <a:solidFill>
                  <a:srgbClr val="fc0128"/>
                </a:solidFill>
                <a:uFillTx/>
                <a:latin typeface="Tahoma"/>
                <a:hlinkClick r:id="rId13" action="ppaction://hlinksldjump"/>
              </a:rPr>
              <a:t> multidimensional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, facilitando o uso do aplicativo de relatório?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e conclusão podemos tirar sobre influência do E-commerce na Arquitetura de um Datawarehouse </a:t>
            </a:r>
            <a:br>
              <a:rPr sz="2000"/>
            </a:b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                                                                        apresentação complet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5800" y="30492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GU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066680"/>
            <a:ext cx="7302600" cy="548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066680"/>
            <a:ext cx="712656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ae00"/>
              </a:buClr>
              <a:buFont typeface="Arial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br>
              <a:rPr sz="1400"/>
            </a:br>
            <a:r>
              <a:rPr b="1" lang="pt-BR" sz="14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0" lang="pt-BR" sz="1400" spc="-1" strike="noStrike" u="sng">
                <a:solidFill>
                  <a:srgbClr val="fc0128"/>
                </a:solidFill>
                <a:uFillTx/>
                <a:latin typeface="Comic Sans MS"/>
                <a:hlinkClick r:id="rId1" action="ppaction://hlinksldjump"/>
              </a:rPr>
              <a:t>DO QUE TRATA O TRABALHO_x000b_</a:t>
            </a:r>
            <a:br>
              <a:rPr sz="1400"/>
            </a:br>
            <a:r>
              <a:rPr b="1" lang="pt-BR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r>
              <a:rPr b="0" lang="pt-BR" sz="2400" spc="-1" strike="noStrike" u="sng">
                <a:solidFill>
                  <a:srgbClr val="fc0128"/>
                </a:solidFill>
                <a:uFillTx/>
                <a:latin typeface="Comic Sans MS"/>
                <a:hlinkClick r:id="rId2" action="ppaction://hlinksldjump"/>
              </a:rPr>
              <a:t>HISTORICO DOS SITES NA WEB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r>
              <a:rPr b="0" lang="pt-BR" sz="2400" spc="-1" strike="noStrike" u="sng">
                <a:solidFill>
                  <a:srgbClr val="fc0128"/>
                </a:solidFill>
                <a:uFillTx/>
                <a:latin typeface="Comic Sans MS"/>
                <a:hlinkClick r:id="rId3" action="ppaction://hlinksldjump"/>
              </a:rPr>
              <a:t>DW e DWING no GERENCIAMENTO  do RELACIONAMENTO COM O CLIENTE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r>
              <a:rPr b="0" lang="pt-BR" sz="2400" spc="-1" strike="noStrike" u="sng">
                <a:solidFill>
                  <a:srgbClr val="fc0128"/>
                </a:solidFill>
                <a:uFillTx/>
                <a:latin typeface="Comic Sans MS"/>
                <a:hlinkClick r:id="rId4" action="ppaction://hlinksldjump"/>
              </a:rPr>
              <a:t>QUAL É O PROBLEMA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r>
              <a:rPr b="0" lang="pt-BR" sz="2400" spc="-1" strike="noStrike" u="sng">
                <a:solidFill>
                  <a:srgbClr val="fc0128"/>
                </a:solidFill>
                <a:uFillTx/>
                <a:latin typeface="Comic Sans MS"/>
                <a:hlinkClick r:id="rId5" action="ppaction://hlinksldjump"/>
              </a:rPr>
              <a:t>QUAL É A SOLUÇÃO</a:t>
            </a:r>
            <a:r>
              <a:rPr b="1" lang="pt-BR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r>
              <a:rPr b="0" lang="pt-BR" sz="2400" spc="-1" strike="noStrike" u="sng">
                <a:solidFill>
                  <a:srgbClr val="fc0128"/>
                </a:solidFill>
                <a:uFillTx/>
                <a:latin typeface="Comic Sans MS"/>
                <a:hlinkClick r:id="rId6" action="ppaction://hlinksldjump"/>
              </a:rPr>
              <a:t>CONCLUSÕES E COMENTÁRIOS</a:t>
            </a:r>
            <a:r>
              <a:rPr b="1" lang="pt-BR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114ffb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838080"/>
            <a:ext cx="7302240" cy="51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1219320"/>
            <a:ext cx="685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Comic Sans MS"/>
              </a:rPr>
              <a:t>DO QUE TRATA O TRABA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819520"/>
            <a:ext cx="712656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1400" spc="-1" strike="noStrike">
                <a:solidFill>
                  <a:srgbClr val="00ae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ae00"/>
                </a:solidFill>
                <a:latin typeface="Comic Sans MS"/>
              </a:rPr>
              <a:t>APLICAR OS CONCEITOS DE DW e Dwing</a:t>
            </a:r>
            <a:br>
              <a:rPr sz="2400"/>
            </a:br>
            <a:r>
              <a:rPr b="0" lang="pt-BR" sz="2400" spc="-1" strike="noStrike">
                <a:solidFill>
                  <a:srgbClr val="00ae00"/>
                </a:solidFill>
                <a:latin typeface="Comic Sans MS"/>
              </a:rPr>
              <a:t>AOS PROCESSOS DE RELACIONAMENTO COM</a:t>
            </a:r>
            <a:br>
              <a:rPr sz="2400"/>
            </a:br>
            <a:r>
              <a:rPr b="0" lang="pt-BR" sz="2400" spc="-1" strike="noStrike">
                <a:solidFill>
                  <a:srgbClr val="00ae00"/>
                </a:solidFill>
                <a:latin typeface="Comic Sans MS"/>
              </a:rPr>
              <a:t>O CLIENTE A UMA EMPRESA FICTICIA DE</a:t>
            </a:r>
            <a:br>
              <a:rPr sz="2400"/>
            </a:br>
            <a:r>
              <a:rPr b="0" lang="pt-BR" sz="2400" spc="-1" strike="noStrike">
                <a:solidFill>
                  <a:srgbClr val="00ae00"/>
                </a:solidFill>
                <a:latin typeface="Comic Sans MS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pt-BR" sz="20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motiv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20880" y="844560"/>
            <a:ext cx="7302240" cy="51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219320"/>
            <a:ext cx="68580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Comic Sans MS"/>
              </a:rPr>
              <a:t>HISTORICO DOS SITES NA WEB</a:t>
            </a:r>
            <a:br>
              <a:rPr sz="2800"/>
            </a:br>
            <a:r>
              <a:rPr b="1" lang="en-US" sz="2000" spc="-1" strike="noStrike">
                <a:solidFill>
                  <a:srgbClr val="114ffb"/>
                </a:solidFill>
                <a:latin typeface="Comic Sans MS"/>
              </a:rPr>
              <a:t>EVOLUÇÃO 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819520"/>
            <a:ext cx="7126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ae00"/>
                </a:solidFill>
                <a:latin typeface="Comic Sans MS"/>
              </a:rPr>
              <a:t>PROPAGANDIC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Comic Sans MS"/>
              </a:rPr>
              <a:t>E-COMMERC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Comic Sans MS"/>
              </a:rPr>
              <a:t>E-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conce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20880" y="844560"/>
            <a:ext cx="7302240" cy="51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219320"/>
            <a:ext cx="68580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Comic Sans MS"/>
              </a:rPr>
              <a:t>HISTORICO DOS SITES NA WEB</a:t>
            </a:r>
            <a:br>
              <a:rPr sz="2800"/>
            </a:br>
            <a:r>
              <a:rPr b="1" lang="en-US" sz="2000" spc="-1" strike="noStrike">
                <a:solidFill>
                  <a:srgbClr val="114ffb"/>
                </a:solidFill>
                <a:latin typeface="Comic Sans MS"/>
              </a:rPr>
              <a:t>EVOLUÇÃO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819520"/>
            <a:ext cx="7126560" cy="25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Comic Sans MS"/>
              </a:rPr>
              <a:t>EMPRESAS CONDUZIDA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Comic Sans MS"/>
              </a:rPr>
              <a:t>PELA GERENCI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Comic Sans MS"/>
              </a:rPr>
              <a:t>PEL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77"/>
            </a:gs>
            <a:gs pos="50000">
              <a:srgbClr val="fefefe"/>
            </a:gs>
            <a:gs pos="100000">
              <a:srgbClr val="eeef7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533520"/>
            <a:ext cx="7238880" cy="586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  <a:effectLst>
            <a:outerShdw dist="71785" dir="2700000" blurRad="0" rotWithShape="0">
              <a:srgbClr val="c1ce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01600" y="1042920"/>
            <a:ext cx="68580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Comic Sans MS"/>
              </a:rPr>
              <a:t>DW e DWING no GERENCIAMENTO  do RELACIONAMENTO COM 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514600"/>
            <a:ext cx="71265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ae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PLANEJAMENTO DE CAMPANHAS</a:t>
            </a: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AUTOMAÇÃO DAS FORÇAS DE VENDAS</a:t>
            </a: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PLANEJAMENTO DE ENTREGA DE PRODUTOS</a:t>
            </a: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PERFIL DO CLIENETE,PRODUTOS,CONTAS E PEDIDOS</a:t>
            </a: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MELHOR FORMA DE DISTRIBUIÇÃO DO PRODUTO</a:t>
            </a: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OBTENÇÃO DE INDICADORES</a:t>
            </a: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LUCRATIVIDADE POR CLIENTE E DESISTENCIA E LEALDAD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ae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conce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1" lang="pt-BR" sz="24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5T21:14:50Z</dcterms:created>
  <dc:creator>Walter Dominguez</dc:creator>
  <dc:description>Apresentação para Engenharia</dc:description>
  <dc:language>en-US</dc:language>
  <cp:lastModifiedBy>walter dominguez</cp:lastModifiedBy>
  <cp:lastPrinted>1999-03-29T02:05:32Z</cp:lastPrinted>
  <dcterms:modified xsi:type="dcterms:W3CDTF">2000-06-26T03:58:09Z</dcterms:modified>
  <cp:revision>118</cp:revision>
  <dc:subject/>
  <dc:title>Slide sem título </dc:title>
</cp:coreProperties>
</file>